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ECE41-688A-44CE-A50F-EE714EA800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463A0-C48A-4E83-8851-A4C0BBEB86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EE099-F9E1-423D-BCC5-FCA36843F5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5287D-AE71-42F4-A4EA-7D5FECD361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3F76-1DCB-4570-ADD0-1AEF0C9496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0246C-FF52-48C5-8E7B-418350A66E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30B5F-43EF-4834-B42F-276A957242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6944-CF26-4720-AF94-11401CC886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6430-83BE-440D-9F40-06C956B906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007C2-59D1-4CE8-B00C-96AEABFE94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B44FB-13E4-4514-B08C-9445F72B7D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9AC9-1E99-46BC-B006-8F019EB99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358C-7B37-4D3C-8FBF-B71F3D1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454B-DFE8-483E-BC36-2751EAC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4271-774B-4825-8F08-474085594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B132-595D-4965-9235-27C2B3A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5BA8-4B5F-4379-A3CE-581436A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057B-D5B4-476D-9D39-9D2A0BD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1992-D684-4D19-9A41-FB93836F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6F3B-FEB4-4EDB-B4F7-851ADEF8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D2F2-066C-47AD-9D7D-DD6C2C63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E8B7-26D2-46A7-8337-971DD417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5F8D-1DFD-47AE-95BE-DC84D8F3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B8A327-3548-45D3-A1E5-896FD897010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1461960"/>
            <a:ext cx="40320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a entomóloga y botánica nacida en Nueva York en 183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ó la mayor parte de su vida en Vineland, New Jers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16, volvió a Nueva York para vivir con su hermana. Murió en 1923, a los 92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83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iografía br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771640" y="571176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York, ciudad natal de Mary Davis Tr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111640" y="828720"/>
            <a:ext cx="341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867280" y="1440000"/>
            <a:ext cx="3240360" cy="39589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71640" y="1461960"/>
            <a:ext cx="49687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endió la teoría de la evolución de Darwin, quien a su vez alabó los trabajos de Mary Davis Treat. A pesar de dichas alabanzas, no fue reconocida por la comunidad científica, debido tan solo al hecho de ser muj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primeras publicaciones fueron detalladas descripciones de ciclos vitales de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1969 publicó 76 artículos y 5 lib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investigaciones ayudaron a muchos entomólogos a clasificar los insectos. Ella misma descubrió varias especies de insectos, arácnidos y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ormig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phanogaster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maril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Zephyranthus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cibier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ombre específico en su hon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7164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ortaciones cientí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940360" y="5400720"/>
            <a:ext cx="29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rles Darwin, uno de los científicos del siglo XIX que fue capaz de apreciar el trabaj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Mary Davis Tre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71640" y="1461960"/>
            <a:ext cx="4608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sus más famosos trabajos fu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e realizó con larvas de mariposa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ci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pilio aste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ubrió que las larvas que comí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bundancia se desarrollaban como hembras, mientras que las que comían poco, lo hacían como ma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ó con otras especies de mariposa y obtuvo resultados simila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rwin afirmó que sus investigaciones con las mariposas eran las mejores realizadas hasta entonces. Esto la ayudó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obtener el mérito que merecía y que tantas veces se le negó por sex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incipales descubr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940360" y="4932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iposa del género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apili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milar a las que investigó Mary Davi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916280"/>
            <a:ext cx="74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los primeros trabajos científicos de Mary Davis Tr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or qué conocido científico fueron reconocid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portaciones de esta mujer a la 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sus trabajos más notab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7164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5:48Z</dcterms:modified>
  <cp:revision>48</cp:revision>
  <dc:subject/>
  <dc:title>Diapositiva 1</dc:title>
</cp:coreProperties>
</file>